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19T16:08:32.054000000" idx="2">
    <p:pos x="5435" y="482"/>
    <p:text/>
  </p:cm>
</p:cmLst>
</file>

<file path=ppt/comments/comment9.xml><?xml version="1.0" encoding="utf-8"?>
<p:cmLst xmlns:p="http://schemas.openxmlformats.org/presentationml/2006/main">
  <p:cm authorId="0" dt="2016-08-19T16:08:24.054000000" idx="1">
    <p:pos x="1479" y="59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4371-8166-487B-ABFE-DA82D6FC9C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7595-1F43-4FCB-AEF2-FD26319064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7158-65E6-4454-B661-B8937AE083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1ACE-7201-420F-A909-6C7CD8B027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5765-709D-424A-B734-83366BE725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139-2578-4A60-B6C1-DAA85186B0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两、三位数乘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492360" y="3430440"/>
            <a:ext cx="5112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00320" y="256536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估算、解决问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1739880" y="278136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伯伯摘了一棵苹果树上的苹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这样的苹果树。估算一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伯伯的果园里大约能摘多少个苹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755640" y="2637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棵树上的苹果一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这样的苹果树大约能摘多少个苹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估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×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积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时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×8=400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大约能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苹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504800" y="3068640"/>
            <a:ext cx="638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95×8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≈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0×8=4000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王伯伯的果园里大约能摘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00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苹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258920" y="2781360"/>
            <a:ext cx="662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阳小学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学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师要为每个学生准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大作业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作业本。一共要准备多少个作业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1574640" y="2992320"/>
            <a:ext cx="62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学生准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大作业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作业本，说明一人准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4=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，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学生，求一共要准备多少个作业本，就是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是多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6" name="矩形 8"/>
          <p:cNvSpPr/>
          <p:nvPr/>
        </p:nvSpPr>
        <p:spPr>
          <a:xfrm>
            <a:off x="1887480" y="292428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4=7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8×7=966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要准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作业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00" name="矩形 1"/>
          <p:cNvSpPr/>
          <p:nvPr/>
        </p:nvSpPr>
        <p:spPr>
          <a:xfrm rot="18297600">
            <a:off x="6408720" y="40114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9"/>
          <p:cNvSpPr/>
          <p:nvPr/>
        </p:nvSpPr>
        <p:spPr>
          <a:xfrm>
            <a:off x="205092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2843280" y="24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2×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485928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9"/>
          <p:cNvSpPr/>
          <p:nvPr/>
        </p:nvSpPr>
        <p:spPr>
          <a:xfrm>
            <a:off x="1476360" y="256536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估算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估算值不是准确值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用“≈”连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能用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接。错误解答错在把算式和结果之间用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88840" y="4941720"/>
            <a:ext cx="1845000" cy="1432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2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5"/>
          <p:cNvSpPr/>
          <p:nvPr/>
        </p:nvSpPr>
        <p:spPr>
          <a:xfrm rot="18297600">
            <a:off x="6097320" y="45878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25" name="Picture 3" descr="F:\七彩课堂插图板式封面\排版用图标、页眉页脚\标题jpg\读读比比.jpg"/>
          <p:cNvPicPr/>
          <p:nvPr/>
        </p:nvPicPr>
        <p:blipFill>
          <a:blip r:embed="rId5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6" name="矩形 20"/>
          <p:cNvSpPr/>
          <p:nvPr/>
        </p:nvSpPr>
        <p:spPr>
          <a:xfrm rot="18297600">
            <a:off x="5952600" y="2738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2411280" y="4149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2×3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205092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268360" y="2852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2×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8"/>
          <p:cNvSpPr/>
          <p:nvPr/>
        </p:nvSpPr>
        <p:spPr>
          <a:xfrm>
            <a:off x="421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042920" y="1700280"/>
            <a:ext cx="295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估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2569680" y="2858760"/>
            <a:ext cx="564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9×3≈      3×48≈       4×22≈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9≈     4×39≈       63×2≈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1×8≈      5×68≈       59×8≈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2627280" y="27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270036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2700360" y="371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4932360" y="27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493236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4932360" y="36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7380360" y="27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738036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7380360" y="36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3213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灵活运用各种方法解决实际问题，感受数学在生活中的广泛应用，提高用数学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乘除混合运算解决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多位数乘一位数的估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F:\七彩课堂插图板式封面\排版用图标、页眉页脚\标题jpg\读读比比.jpg"/>
          <p:cNvPicPr/>
          <p:nvPr/>
        </p:nvPicPr>
        <p:blipFill>
          <a:blip r:embed="rId1"/>
          <a:srcRect l="16672" t="11912" r="0" b="0"/>
          <a:stretch/>
        </p:blipFill>
        <p:spPr>
          <a:xfrm>
            <a:off x="6588000" y="765000"/>
            <a:ext cx="2160720" cy="1597320"/>
          </a:xfrm>
          <a:prstGeom prst="rect">
            <a:avLst/>
          </a:prstGeom>
          <a:ln w="0">
            <a:noFill/>
          </a:ln>
        </p:spPr>
      </p:pic>
      <p:sp>
        <p:nvSpPr>
          <p:cNvPr id="250" name="矩形 15"/>
          <p:cNvSpPr/>
          <p:nvPr/>
        </p:nvSpPr>
        <p:spPr>
          <a:xfrm>
            <a:off x="1403280" y="1989000"/>
            <a:ext cx="525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年级准备租车去秋游，每辆车限乘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一年级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估一估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车够不够？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900000" y="4797360"/>
            <a:ext cx="1843200" cy="14320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7"/>
          <p:cNvSpPr/>
          <p:nvPr/>
        </p:nvSpPr>
        <p:spPr>
          <a:xfrm>
            <a:off x="3203640" y="4149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2×3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12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3203640" y="508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＞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15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44"/>
          <p:cNvSpPr/>
          <p:nvPr/>
        </p:nvSpPr>
        <p:spPr>
          <a:xfrm>
            <a:off x="971640" y="1844640"/>
            <a:ext cx="51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丽丽每天骑自行车上学，她平均每分钟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，需要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，丽丽家离学校大约有多远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8"/>
          <p:cNvSpPr/>
          <p:nvPr/>
        </p:nvSpPr>
        <p:spPr>
          <a:xfrm>
            <a:off x="2987640" y="4149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8×8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16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F:\七彩课堂插图板式封面\排版用图标、页眉页脚\标题jpg\读读比比.jpg"/>
          <p:cNvPicPr/>
          <p:nvPr/>
        </p:nvPicPr>
        <p:blipFill>
          <a:blip r:embed="rId1"/>
          <a:srcRect l="13891" t="7951" r="0" b="0"/>
          <a:stretch/>
        </p:blipFill>
        <p:spPr>
          <a:xfrm>
            <a:off x="6227640" y="907920"/>
            <a:ext cx="2232000" cy="1670040"/>
          </a:xfrm>
          <a:prstGeom prst="rect">
            <a:avLst/>
          </a:prstGeom>
          <a:ln w="0">
            <a:noFill/>
          </a:ln>
        </p:spPr>
      </p:pic>
      <p:sp>
        <p:nvSpPr>
          <p:cNvPr id="262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971640" y="1844640"/>
            <a:ext cx="5400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杨庄小学组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去春游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租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汽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每辆车上能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汽车够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11280" y="4797360"/>
            <a:ext cx="1842840" cy="14320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8"/>
          <p:cNvSpPr/>
          <p:nvPr/>
        </p:nvSpPr>
        <p:spPr>
          <a:xfrm>
            <a:off x="2751120" y="4325760"/>
            <a:ext cx="34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6×6=33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3672000" y="52214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F:\七彩课堂插图板式封面\排版用图标、页眉页脚\标题jpg\读读比比.jpg"/>
          <p:cNvPicPr/>
          <p:nvPr/>
        </p:nvPicPr>
        <p:blipFill>
          <a:blip r:embed="rId1"/>
          <a:srcRect l="13891" t="7951" r="0" b="0"/>
          <a:stretch/>
        </p:blipFill>
        <p:spPr>
          <a:xfrm>
            <a:off x="6300720" y="76500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9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755640" y="4797360"/>
            <a:ext cx="1843200" cy="1432080"/>
          </a:xfrm>
          <a:prstGeom prst="rect">
            <a:avLst/>
          </a:prstGeom>
          <a:ln w="0">
            <a:noFill/>
          </a:ln>
        </p:spPr>
      </p:pic>
      <p:sp>
        <p:nvSpPr>
          <p:cNvPr id="271" name="矩形 6"/>
          <p:cNvSpPr/>
          <p:nvPr/>
        </p:nvSpPr>
        <p:spPr>
          <a:xfrm>
            <a:off x="1042920" y="213372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年宫乐队有女同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同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合唱队的人数是乐队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唱队有多少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320364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0×4=98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3276720" y="4149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+90=17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7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" name="AutoShape 27"/>
          <p:cNvSpPr/>
          <p:nvPr/>
        </p:nvSpPr>
        <p:spPr>
          <a:xfrm>
            <a:off x="5796000" y="1197000"/>
            <a:ext cx="2833560" cy="1066680"/>
          </a:xfrm>
          <a:prstGeom prst="wedgeRoundRectCallout">
            <a:avLst>
              <a:gd name="adj1" fmla="val -61013"/>
              <a:gd name="adj2" fmla="val 1063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估算时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要用“四舍五入”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8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矩形 18"/>
          <p:cNvSpPr/>
          <p:nvPr/>
        </p:nvSpPr>
        <p:spPr>
          <a:xfrm>
            <a:off x="781200" y="3716280"/>
            <a:ext cx="7848360" cy="47484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、三位数乘一位数的估算方法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把接近整十、整百数的两、三位数看作是整十、整百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与另一个因数相乘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估算出积的近似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3"/>
          <p:cNvSpPr/>
          <p:nvPr/>
        </p:nvSpPr>
        <p:spPr>
          <a:xfrm>
            <a:off x="755640" y="5157720"/>
            <a:ext cx="7920000" cy="520560"/>
          </a:xfrm>
          <a:prstGeom prst="rect">
            <a:avLst/>
          </a:prstGeom>
          <a:solidFill>
            <a:srgbClr val="ff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综合运用所学知识解决生活中的简单问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会合理购物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划花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443640" y="76500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1187280" y="23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数接近哪个整十或整百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254240" y="3357720"/>
            <a:ext cx="71892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2268360" y="3357720"/>
            <a:ext cx="71928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3276720" y="3357720"/>
            <a:ext cx="71892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4284720" y="3357720"/>
            <a:ext cx="71892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5292720" y="3357720"/>
            <a:ext cx="71928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300720" y="3357720"/>
            <a:ext cx="71928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41"/>
          <p:cNvGrpSpPr/>
          <p:nvPr/>
        </p:nvGrpSpPr>
        <p:grpSpPr>
          <a:xfrm>
            <a:off x="1254240" y="3933720"/>
            <a:ext cx="718920" cy="919080"/>
            <a:chOff x="1254240" y="3933720"/>
            <a:chExt cx="718920" cy="919080"/>
          </a:xfrm>
        </p:grpSpPr>
        <p:sp>
          <p:nvSpPr>
            <p:cNvPr id="68" name="TextBox 24"/>
            <p:cNvSpPr/>
            <p:nvPr/>
          </p:nvSpPr>
          <p:spPr>
            <a:xfrm>
              <a:off x="1254240" y="438444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下箭头 4"/>
            <p:cNvSpPr/>
            <p:nvPr/>
          </p:nvSpPr>
          <p:spPr>
            <a:xfrm>
              <a:off x="1504800" y="3933720"/>
              <a:ext cx="250560" cy="360360"/>
            </a:xfrm>
            <a:prstGeom prst="downArrow">
              <a:avLst>
                <a:gd name="adj1" fmla="val 50000"/>
                <a:gd name="adj2" fmla="val 29690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0"/>
          <p:cNvGrpSpPr/>
          <p:nvPr/>
        </p:nvGrpSpPr>
        <p:grpSpPr>
          <a:xfrm>
            <a:off x="2268360" y="3933720"/>
            <a:ext cx="719280" cy="920520"/>
            <a:chOff x="2268360" y="3933720"/>
            <a:chExt cx="719280" cy="920520"/>
          </a:xfrm>
        </p:grpSpPr>
        <p:sp>
          <p:nvSpPr>
            <p:cNvPr id="71" name="TextBox 25"/>
            <p:cNvSpPr/>
            <p:nvPr/>
          </p:nvSpPr>
          <p:spPr>
            <a:xfrm>
              <a:off x="2268360" y="4385880"/>
              <a:ext cx="71928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下箭头 30"/>
            <p:cNvSpPr/>
            <p:nvPr/>
          </p:nvSpPr>
          <p:spPr>
            <a:xfrm>
              <a:off x="2519280" y="3933720"/>
              <a:ext cx="252360" cy="358560"/>
            </a:xfrm>
            <a:prstGeom prst="downArrow">
              <a:avLst>
                <a:gd name="adj1" fmla="val 50000"/>
                <a:gd name="adj2" fmla="val 29331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39"/>
          <p:cNvGrpSpPr/>
          <p:nvPr/>
        </p:nvGrpSpPr>
        <p:grpSpPr>
          <a:xfrm>
            <a:off x="3276720" y="3933720"/>
            <a:ext cx="718920" cy="920520"/>
            <a:chOff x="3276720" y="3933720"/>
            <a:chExt cx="718920" cy="920520"/>
          </a:xfrm>
        </p:grpSpPr>
        <p:sp>
          <p:nvSpPr>
            <p:cNvPr id="74" name="TextBox 26"/>
            <p:cNvSpPr/>
            <p:nvPr/>
          </p:nvSpPr>
          <p:spPr>
            <a:xfrm>
              <a:off x="3276720" y="438588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下箭头 31"/>
            <p:cNvSpPr/>
            <p:nvPr/>
          </p:nvSpPr>
          <p:spPr>
            <a:xfrm>
              <a:off x="3498480" y="3933720"/>
              <a:ext cx="252360" cy="358560"/>
            </a:xfrm>
            <a:prstGeom prst="downArrow">
              <a:avLst>
                <a:gd name="adj1" fmla="val 50000"/>
                <a:gd name="adj2" fmla="val 29331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8"/>
          <p:cNvGrpSpPr/>
          <p:nvPr/>
        </p:nvGrpSpPr>
        <p:grpSpPr>
          <a:xfrm>
            <a:off x="4284720" y="3933720"/>
            <a:ext cx="718920" cy="920520"/>
            <a:chOff x="4284720" y="3933720"/>
            <a:chExt cx="718920" cy="920520"/>
          </a:xfrm>
        </p:grpSpPr>
        <p:sp>
          <p:nvSpPr>
            <p:cNvPr id="77" name="TextBox 27"/>
            <p:cNvSpPr/>
            <p:nvPr/>
          </p:nvSpPr>
          <p:spPr>
            <a:xfrm>
              <a:off x="4284720" y="438588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下箭头 32"/>
            <p:cNvSpPr/>
            <p:nvPr/>
          </p:nvSpPr>
          <p:spPr>
            <a:xfrm>
              <a:off x="4536720" y="3933720"/>
              <a:ext cx="252360" cy="358560"/>
            </a:xfrm>
            <a:prstGeom prst="downArrow">
              <a:avLst>
                <a:gd name="adj1" fmla="val 50000"/>
                <a:gd name="adj2" fmla="val 29331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37"/>
          <p:cNvGrpSpPr/>
          <p:nvPr/>
        </p:nvGrpSpPr>
        <p:grpSpPr>
          <a:xfrm>
            <a:off x="5292720" y="3933720"/>
            <a:ext cx="719280" cy="919080"/>
            <a:chOff x="5292720" y="3933720"/>
            <a:chExt cx="719280" cy="919080"/>
          </a:xfrm>
        </p:grpSpPr>
        <p:sp>
          <p:nvSpPr>
            <p:cNvPr id="80" name="TextBox 28"/>
            <p:cNvSpPr/>
            <p:nvPr/>
          </p:nvSpPr>
          <p:spPr>
            <a:xfrm>
              <a:off x="5292720" y="4384440"/>
              <a:ext cx="71928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下箭头 33"/>
            <p:cNvSpPr/>
            <p:nvPr/>
          </p:nvSpPr>
          <p:spPr>
            <a:xfrm>
              <a:off x="5537520" y="3933720"/>
              <a:ext cx="252360" cy="360360"/>
            </a:xfrm>
            <a:prstGeom prst="downArrow">
              <a:avLst>
                <a:gd name="adj1" fmla="val 50000"/>
                <a:gd name="adj2" fmla="val 29478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36"/>
          <p:cNvGrpSpPr/>
          <p:nvPr/>
        </p:nvGrpSpPr>
        <p:grpSpPr>
          <a:xfrm>
            <a:off x="6300720" y="3933720"/>
            <a:ext cx="718920" cy="920520"/>
            <a:chOff x="6300720" y="3933720"/>
            <a:chExt cx="718920" cy="920520"/>
          </a:xfrm>
        </p:grpSpPr>
        <p:sp>
          <p:nvSpPr>
            <p:cNvPr id="83" name="TextBox 29"/>
            <p:cNvSpPr/>
            <p:nvPr/>
          </p:nvSpPr>
          <p:spPr>
            <a:xfrm>
              <a:off x="6300720" y="438588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下箭头 34"/>
            <p:cNvSpPr/>
            <p:nvPr/>
          </p:nvSpPr>
          <p:spPr>
            <a:xfrm>
              <a:off x="6554520" y="3933720"/>
              <a:ext cx="252360" cy="360360"/>
            </a:xfrm>
            <a:prstGeom prst="downArrow">
              <a:avLst>
                <a:gd name="adj1" fmla="val 50000"/>
                <a:gd name="adj2" fmla="val 29478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TextBox 22"/>
          <p:cNvSpPr/>
          <p:nvPr/>
        </p:nvSpPr>
        <p:spPr>
          <a:xfrm>
            <a:off x="7291440" y="3357720"/>
            <a:ext cx="718920" cy="468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35"/>
          <p:cNvGrpSpPr/>
          <p:nvPr/>
        </p:nvGrpSpPr>
        <p:grpSpPr>
          <a:xfrm>
            <a:off x="7291440" y="3933720"/>
            <a:ext cx="718920" cy="920520"/>
            <a:chOff x="7291440" y="3933720"/>
            <a:chExt cx="718920" cy="920520"/>
          </a:xfrm>
        </p:grpSpPr>
        <p:sp>
          <p:nvSpPr>
            <p:cNvPr id="87" name="TextBox 29"/>
            <p:cNvSpPr/>
            <p:nvPr/>
          </p:nvSpPr>
          <p:spPr>
            <a:xfrm>
              <a:off x="7291440" y="4385880"/>
              <a:ext cx="718920" cy="46836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下箭头 34"/>
            <p:cNvSpPr/>
            <p:nvPr/>
          </p:nvSpPr>
          <p:spPr>
            <a:xfrm>
              <a:off x="7535520" y="3933720"/>
              <a:ext cx="252360" cy="360360"/>
            </a:xfrm>
            <a:prstGeom prst="downArrow">
              <a:avLst>
                <a:gd name="adj1" fmla="val 50000"/>
                <a:gd name="adj2" fmla="val 29478"/>
              </a:avLst>
            </a:prstGeom>
            <a:solidFill>
              <a:srgbClr val="af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443640" y="76500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1258920" y="184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865080" y="3203640"/>
            <a:ext cx="79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124000" y="32130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599000" y="321300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348680" y="3141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124000" y="364500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599000" y="364500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348680" y="357336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208240" y="39592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657680" y="395928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321680" y="395928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762200" y="1700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组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9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参观科技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K16.EPS" descr="id:2147502655;FounderCES"/>
          <p:cNvPicPr/>
          <p:nvPr/>
        </p:nvPicPr>
        <p:blipFill>
          <a:blip r:embed="rId1"/>
          <a:stretch/>
        </p:blipFill>
        <p:spPr>
          <a:xfrm>
            <a:off x="1454040" y="2349360"/>
            <a:ext cx="6794640" cy="2360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1"/>
          <p:cNvSpPr/>
          <p:nvPr/>
        </p:nvSpPr>
        <p:spPr>
          <a:xfrm>
            <a:off x="3051720" y="5157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一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购买门票大约需要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913040" y="5464080"/>
            <a:ext cx="60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购买门票大约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5540400" y="1106640"/>
            <a:ext cx="2546280" cy="1768320"/>
            <a:chOff x="5540400" y="1106640"/>
            <a:chExt cx="2546280" cy="1768320"/>
          </a:xfrm>
        </p:grpSpPr>
        <p:sp>
          <p:nvSpPr>
            <p:cNvPr id="117" name="AutoShape 27"/>
            <p:cNvSpPr/>
            <p:nvPr/>
          </p:nvSpPr>
          <p:spPr>
            <a:xfrm>
              <a:off x="5540400" y="1879560"/>
              <a:ext cx="1368360" cy="496440"/>
            </a:xfrm>
            <a:prstGeom prst="wedgeRoundRectCallout">
              <a:avLst>
                <a:gd name="adj1" fmla="val 66462"/>
                <a:gd name="adj2" fmla="val -170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估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Picture 35" descr="25"/>
            <p:cNvPicPr/>
            <p:nvPr/>
          </p:nvPicPr>
          <p:blipFill>
            <a:blip r:embed="rId1"/>
            <a:stretch/>
          </p:blipFill>
          <p:spPr>
            <a:xfrm>
              <a:off x="6966000" y="1106640"/>
              <a:ext cx="1120680" cy="17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32"/>
          <p:cNvGrpSpPr/>
          <p:nvPr/>
        </p:nvGrpSpPr>
        <p:grpSpPr>
          <a:xfrm>
            <a:off x="179280" y="1676520"/>
            <a:ext cx="3378240" cy="1842840"/>
            <a:chOff x="179280" y="1676520"/>
            <a:chExt cx="3378240" cy="1842840"/>
          </a:xfrm>
        </p:grpSpPr>
        <p:pic>
          <p:nvPicPr>
            <p:cNvPr id="120" name="Picture 31" descr="24"/>
            <p:cNvPicPr/>
            <p:nvPr/>
          </p:nvPicPr>
          <p:blipFill>
            <a:blip r:embed="rId2"/>
            <a:stretch/>
          </p:blipFill>
          <p:spPr>
            <a:xfrm>
              <a:off x="179280" y="1676520"/>
              <a:ext cx="1397160" cy="18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27"/>
            <p:cNvSpPr/>
            <p:nvPr/>
          </p:nvSpPr>
          <p:spPr>
            <a:xfrm>
              <a:off x="1604880" y="1785600"/>
              <a:ext cx="1952640" cy="496440"/>
            </a:xfrm>
            <a:prstGeom prst="wedgeRoundRectCallout">
              <a:avLst>
                <a:gd name="adj1" fmla="val -61185"/>
                <a:gd name="adj2" fmla="val 60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门票应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16"/>
          <p:cNvSpPr/>
          <p:nvPr/>
        </p:nvSpPr>
        <p:spPr>
          <a:xfrm>
            <a:off x="2889360" y="26859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93×5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444600" y="3664080"/>
            <a:ext cx="4703760" cy="2114280"/>
            <a:chOff x="444600" y="3664080"/>
            <a:chExt cx="4703760" cy="2114280"/>
          </a:xfrm>
        </p:grpSpPr>
        <p:sp>
          <p:nvSpPr>
            <p:cNvPr id="124" name="AutoShape 31"/>
            <p:cNvSpPr/>
            <p:nvPr/>
          </p:nvSpPr>
          <p:spPr>
            <a:xfrm>
              <a:off x="1676520" y="3664080"/>
              <a:ext cx="3471840" cy="1049040"/>
            </a:xfrm>
            <a:prstGeom prst="wedgeRoundRectCallout">
              <a:avLst>
                <a:gd name="adj1" fmla="val -57939"/>
                <a:gd name="adj2" fmla="val 86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9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接近整百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0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9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444600" y="3986280"/>
              <a:ext cx="132264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19"/>
          <p:cNvSpPr/>
          <p:nvPr/>
        </p:nvSpPr>
        <p:spPr>
          <a:xfrm>
            <a:off x="5034960" y="274788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500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K17.EPS" descr="id:2147502728;FounderCES"/>
          <p:cNvPicPr/>
          <p:nvPr/>
        </p:nvPicPr>
        <p:blipFill>
          <a:blip r:embed="rId1"/>
          <a:stretch/>
        </p:blipFill>
        <p:spPr>
          <a:xfrm>
            <a:off x="1679400" y="2205000"/>
            <a:ext cx="5877000" cy="158760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1"/>
          <p:cNvGrpSpPr/>
          <p:nvPr/>
        </p:nvGrpSpPr>
        <p:grpSpPr>
          <a:xfrm>
            <a:off x="106200" y="3760920"/>
            <a:ext cx="4178520" cy="1858680"/>
            <a:chOff x="106200" y="3760920"/>
            <a:chExt cx="4178520" cy="1858680"/>
          </a:xfrm>
        </p:grpSpPr>
        <p:sp>
          <p:nvSpPr>
            <p:cNvPr id="129" name="AutoShape 27"/>
            <p:cNvSpPr/>
            <p:nvPr/>
          </p:nvSpPr>
          <p:spPr>
            <a:xfrm>
              <a:off x="1503360" y="3760920"/>
              <a:ext cx="2781360" cy="891000"/>
            </a:xfrm>
            <a:prstGeom prst="wedgeRoundRectCallout">
              <a:avLst>
                <a:gd name="adj1" fmla="val -55250"/>
                <a:gd name="adj2" fmla="val 3113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5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进行估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28" descr="24"/>
            <p:cNvPicPr/>
            <p:nvPr/>
          </p:nvPicPr>
          <p:blipFill>
            <a:blip r:embed="rId2"/>
            <a:stretch/>
          </p:blipFill>
          <p:spPr>
            <a:xfrm>
              <a:off x="106200" y="3775680"/>
              <a:ext cx="1397160" cy="184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217520" y="159228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大爷种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大棚的西红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大棚的西红柿卖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5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1332000" y="50734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52×4≈40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4476960" y="56293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052×4≈4200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2"/>
          <p:cNvGrpSpPr/>
          <p:nvPr/>
        </p:nvGrpSpPr>
        <p:grpSpPr>
          <a:xfrm>
            <a:off x="4859280" y="3552840"/>
            <a:ext cx="4060800" cy="2257560"/>
            <a:chOff x="4859280" y="3552840"/>
            <a:chExt cx="4060800" cy="2257560"/>
          </a:xfrm>
        </p:grpSpPr>
        <p:sp>
          <p:nvSpPr>
            <p:cNvPr id="137" name="AutoShape 32"/>
            <p:cNvSpPr/>
            <p:nvPr/>
          </p:nvSpPr>
          <p:spPr>
            <a:xfrm>
              <a:off x="4859280" y="4002120"/>
              <a:ext cx="2854440" cy="891000"/>
            </a:xfrm>
            <a:prstGeom prst="wedgeRoundRectCallout">
              <a:avLst>
                <a:gd name="adj1" fmla="val 58597"/>
                <a:gd name="adj2" fmla="val 19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5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5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进行估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8" name="Picture 51" descr="20"/>
            <p:cNvPicPr/>
            <p:nvPr/>
          </p:nvPicPr>
          <p:blipFill>
            <a:blip r:embed="rId3"/>
            <a:stretch/>
          </p:blipFill>
          <p:spPr>
            <a:xfrm>
              <a:off x="7524360" y="3552840"/>
              <a:ext cx="139572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同侧圆角矩形 3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同侧圆角矩形 40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708360" y="1179360"/>
            <a:ext cx="4940280" cy="4633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6"/>
          <p:cNvSpPr/>
          <p:nvPr/>
        </p:nvSpPr>
        <p:spPr>
          <a:xfrm>
            <a:off x="955800" y="1700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做花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45"/>
          <p:cNvGrpSpPr/>
          <p:nvPr/>
        </p:nvGrpSpPr>
        <p:grpSpPr>
          <a:xfrm>
            <a:off x="176040" y="3214800"/>
            <a:ext cx="3316320" cy="3060720"/>
            <a:chOff x="176040" y="3214800"/>
            <a:chExt cx="3316320" cy="3060720"/>
          </a:xfrm>
        </p:grpSpPr>
        <p:sp>
          <p:nvSpPr>
            <p:cNvPr id="148" name="AutoShape 38"/>
            <p:cNvSpPr/>
            <p:nvPr/>
          </p:nvSpPr>
          <p:spPr>
            <a:xfrm>
              <a:off x="1004760" y="3214800"/>
              <a:ext cx="2487600" cy="496440"/>
            </a:xfrm>
            <a:prstGeom prst="wedgeRoundRectCallout">
              <a:avLst>
                <a:gd name="adj1" fmla="val -44722"/>
                <a:gd name="adj2" fmla="val 2881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自己制订一个方案，算一算要花多少钱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176040" y="4653000"/>
              <a:ext cx="1655640" cy="16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同侧圆角矩形 3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同侧圆角矩形 40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2"/>
          <p:cNvGrpSpPr/>
          <p:nvPr/>
        </p:nvGrpSpPr>
        <p:grpSpPr>
          <a:xfrm>
            <a:off x="306360" y="1816200"/>
            <a:ext cx="7850160" cy="2342880"/>
            <a:chOff x="306360" y="1816200"/>
            <a:chExt cx="7850160" cy="2342880"/>
          </a:xfrm>
        </p:grpSpPr>
        <p:sp>
          <p:nvSpPr>
            <p:cNvPr id="156" name="AutoShape 27"/>
            <p:cNvSpPr/>
            <p:nvPr/>
          </p:nvSpPr>
          <p:spPr>
            <a:xfrm>
              <a:off x="1908000" y="1816200"/>
              <a:ext cx="6248520" cy="891360"/>
            </a:xfrm>
            <a:prstGeom prst="wedgeRoundRectCallout">
              <a:avLst>
                <a:gd name="adj1" fmla="val -56828"/>
                <a:gd name="adj2" fmla="val 92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用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3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花装扮一个漂亮的花篮。这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3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花是玫瑰花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、非洲菊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、郁金香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枝。一枝花的价钱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: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玫瑰花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、非洲菊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、郁金香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9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。一共花的钱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:5×6+6×7+2×9=90(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Picture 28" descr="24"/>
            <p:cNvPicPr/>
            <p:nvPr/>
          </p:nvPicPr>
          <p:blipFill>
            <a:blip r:embed="rId1"/>
            <a:stretch/>
          </p:blipFill>
          <p:spPr>
            <a:xfrm>
              <a:off x="306360" y="2315880"/>
              <a:ext cx="1396800" cy="18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组合 3"/>
          <p:cNvGrpSpPr/>
          <p:nvPr/>
        </p:nvGrpSpPr>
        <p:grpSpPr>
          <a:xfrm>
            <a:off x="2124000" y="3573360"/>
            <a:ext cx="6448680" cy="1879200"/>
            <a:chOff x="2124000" y="3573360"/>
            <a:chExt cx="6448680" cy="1879200"/>
          </a:xfrm>
        </p:grpSpPr>
        <p:pic>
          <p:nvPicPr>
            <p:cNvPr id="159" name="Picture 35" descr="25"/>
            <p:cNvPicPr/>
            <p:nvPr/>
          </p:nvPicPr>
          <p:blipFill>
            <a:blip r:embed="rId2"/>
            <a:stretch/>
          </p:blipFill>
          <p:spPr>
            <a:xfrm>
              <a:off x="7452000" y="3573360"/>
              <a:ext cx="1120680" cy="176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AutoShape 27"/>
            <p:cNvSpPr/>
            <p:nvPr/>
          </p:nvSpPr>
          <p:spPr>
            <a:xfrm>
              <a:off x="2124000" y="4166280"/>
              <a:ext cx="5112000" cy="1286280"/>
            </a:xfrm>
            <a:prstGeom prst="wedgeRoundRectCallout">
              <a:avLst>
                <a:gd name="adj1" fmla="val 58791"/>
                <a:gd name="adj2" fmla="val -381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用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8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花插一个花篮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,18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这个数我喜欢。可以这样选花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:10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玫瑰花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60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;4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非洲菊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28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;2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剑兰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6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;2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枝粉百合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2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。合起来是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16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08:49Z</dcterms:modified>
  <cp:revision>421</cp:revision>
  <dc:subject>www.xkb1.com</dc:subject>
  <dc:title>www.xkb1.com</dc:title>
</cp:coreProperties>
</file>